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E9CA-ED5F-4522-867A-F6B538C1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49E84-6BC8-4642-9030-383C5F1BA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70AA-54E4-4DF7-AEAB-3A8ED14AD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B19D7-9DC1-45F1-8942-FADEC9A6F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0984-F842-47FD-B22A-B434EA254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1F5C4-D97F-45FD-80B9-B66F6B3EB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95921-DD23-4268-B3CA-AE7761F81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006B6-764B-4A44-9C3B-869DFD4F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2021F-9B93-4F05-8361-576800AA3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0BEF7-CFEA-4203-B90F-F5E6106C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DE0B5-6EEF-421E-8F05-2C206067C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847-3730-4308-AEFE-0D7B1C99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AA3CD-9D0B-44F1-8FD6-969CADAB6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3D87B-B30C-4488-9887-FB4472FDE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9A329-AB37-47DA-8287-70224412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C1C63-F788-48C8-BD08-23EA4005A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A1F2F-A41B-4974-AC99-5FC411EEC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E173-51FD-4C61-8C2C-BDA39183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2654-3424-418B-8F51-842176CC8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471-D2E8-43B5-AA61-CC4625E7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18320-6CFC-4DB4-986E-F60A73852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CE53-B358-47E2-A1F1-373DE862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EFB1-A178-4BD3-9041-48FD1FDE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8C90-95A4-4C3A-BCFA-DB149139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D3B3F-7C63-459B-A286-37D73B147E42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CD81-9BFC-476F-9D42-CC67C79E7818}" type="slidenum">
              <a:rPr b="0" lang="el-G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8000" y="1341360"/>
            <a:ext cx="6624720" cy="19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330033"/>
                </a:solidFill>
                <a:latin typeface="Times New Roman"/>
              </a:rPr>
              <a:t>Φυσική Β΄ Γυμνασίου</a:t>
            </a:r>
            <a:br>
              <a:rPr sz="2800"/>
            </a:br>
            <a:r>
              <a:rPr b="1" lang="el-GR" sz="2800" spc="-1" strike="noStrike">
                <a:solidFill>
                  <a:srgbClr val="330033"/>
                </a:solidFill>
                <a:latin typeface="Times New Roman"/>
              </a:rPr>
              <a:t>ΜΕΛΕΤΗ ΟΜΑΛΗΣ ΕΥΘΥΓΡΑΜΜΗΣ </a:t>
            </a:r>
            <a:br>
              <a:rPr sz="2800"/>
            </a:br>
            <a:r>
              <a:rPr b="1" lang="el-GR" sz="2800" spc="-1" strike="noStrike">
                <a:solidFill>
                  <a:srgbClr val="330033"/>
                </a:solidFill>
                <a:latin typeface="Times New Roman"/>
              </a:rPr>
              <a:t>ΚΙΝΗΣΗΣ</a:t>
            </a:r>
            <a:r>
              <a:rPr b="1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pic>
        <p:nvPicPr>
          <p:cNvPr id="98" name="Picture 4" descr="C:\Users\user\AppData\Local\Microsoft\Windows\Temporary Internet Files\Content.IE5\DA42S5ZR\airplane-305087_640[1].png"/>
          <p:cNvPicPr/>
          <p:nvPr/>
        </p:nvPicPr>
        <p:blipFill>
          <a:blip r:embed="rId1"/>
          <a:stretch/>
        </p:blipFill>
        <p:spPr>
          <a:xfrm>
            <a:off x="2700360" y="3573360"/>
            <a:ext cx="4524480" cy="22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000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33"/>
                </a:solidFill>
                <a:latin typeface="Times New Roman"/>
              </a:rPr>
              <a:t>ΠΟΡΕΙΑ ΜΑΘΗΜΑΤΟΣ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755640" y="1773360"/>
            <a:ext cx="856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0" lang="el-GR" sz="2400" spc="-1" strike="noStrike">
                <a:solidFill>
                  <a:srgbClr val="330033"/>
                </a:solidFill>
                <a:latin typeface="Times New Roman"/>
              </a:rPr>
              <a:t>ΟΡΙΣΜΟΣ ΤΗΣ ΟΜΑΛΗΣ ΕΥΘΥΓΡΑΜΜΗΣ ΚΙΝΗΣ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07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330033"/>
                </a:solidFill>
                <a:latin typeface="Times New Roman"/>
              </a:rPr>
              <a:t>ΔΙΔΑΚΤΙΚΟΙ ΣΤΟΧΟΙ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914400" y="1600200"/>
            <a:ext cx="8121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0033"/>
                </a:solidFill>
                <a:latin typeface="Times New Roman"/>
              </a:rPr>
              <a:t>ΟΙ ΜΑΘΗΤΕΣ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0033"/>
                </a:solidFill>
                <a:latin typeface="Times New Roman"/>
              </a:rPr>
              <a:t>ΑΝΑΜΕΝΕΤΑΙ ΜΕΤΑ ΤΟ ΤΕΛΟΣ ΤΟΥ ΜΑΘΗΜΑΤΟΣ ΝΑ ΜΠΟΡΟΥΝ ΝΑ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0033"/>
                </a:solidFill>
                <a:latin typeface="Times New Roman"/>
              </a:rPr>
              <a:t>ΕΚΤΕΛΟΥΝ ΠΕΙΡΑΜΑ ΜΕΣΑ ΑΠΟ ΤΟ ΟΠΟΙΟ 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          </a:t>
            </a:r>
            <a:r>
              <a:rPr b="0" lang="el-GR" sz="2800" spc="-1" strike="noStrike">
                <a:solidFill>
                  <a:srgbClr val="330033"/>
                </a:solidFill>
                <a:latin typeface="Times New Roman"/>
              </a:rPr>
              <a:t>ΝΑ ΑΝΑΔΕΙΚΝΥΟΥΝ ΤΗ ΣΧΕΣΗ ΜΕΤΑΤΟΠΙΣΗΣ - ΧΡΟΝΙΚΗΣ ΔΙΑΡΚΕΙΑΣ ΣΤΗΝ ΟΜΑΛΗ ΕΥΘΥΓΡΑΜΜΗ ΚΙΝ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0033"/>
                </a:solidFill>
                <a:latin typeface="Times New Roman"/>
              </a:rPr>
              <a:t>ΔΙΝΟΥΝ ΤΟΝ ΟΡΙΣΜΟ ΤΗΣ ΟΜΑΛΗΣ ΕΥΘΥΓΡΑΜΜΗΣ ΚΙΝΗΣΗΣ ΜΕΤΑ ΤΗΝ ΕΠΕΞΕΡΓΑΣΙΑ ΤΩΝ ΜΕΤΡΗΣΕΩΝ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l-GR" sz="2800" spc="-1" strike="noStrike">
                <a:solidFill>
                  <a:srgbClr val="330033"/>
                </a:solidFill>
                <a:latin typeface="Times New Roman"/>
              </a:rPr>
              <a:t>ΤΟΥ ΠΕΙΡΑΜΑΤΟΣ ΤΟΥ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330033"/>
                </a:solidFill>
                <a:latin typeface="Times New Roman"/>
              </a:rPr>
              <a:t>ΔΕΞΙΟΤΗΤΕΣ ΤΩΝ ΜΑΘΗΤΩ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0033"/>
                </a:solidFill>
                <a:latin typeface="Times New Roman"/>
              </a:rPr>
              <a:t>ΝΑ ΚΑΛΛΙΕΡΓΗΣΟΥΝ ΣΥΝΕΡΓΑΤΙΚΟ ΠΝΕΥΜΑ ΜΕΣΑ ΣΤΑ ΠΛΑΙΣΙΑ ΤΗΣ ΕΡΓΑΣΙΑΣ ΣΕ ΟΜΑΔΕΣ (ΧΩΡΙΣΜΟΣ ΤΗΣ ΤΑΞΗΣ ΣΕ 3 ΟΜΑΔΕΣ ΤΩΝ 4 ΜΑΘΗΤΩ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0033"/>
                </a:solidFill>
                <a:latin typeface="Times New Roman"/>
              </a:rPr>
              <a:t>ΝΑ ΜΠΟΡΟΥΝ ΝΑ ΧΡΗΣΙΜΟΠΟΙΟΥΝ ΜΕ ΑΚΡΙΒΕΙΑ ΤΑ ΟΡΓΑΝΑ ΣΤΟ ΠΕΙΡΑΜΑ ΤΟΥ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0033"/>
                </a:solidFill>
                <a:latin typeface="Times New Roman"/>
              </a:rPr>
              <a:t>ΝΑ ΑΝΑΠΤΥΞΟΥΝ ΠΡΩΤΟΒΟΥΛΙΕΣ ΚΑΙ ΝΑ ΜΠΟΡΕΣΟΥΝ ΣΤΑΔΙΑΚΑ ΝΑ ΔΙΑΤΥΠΩΝΟΥΝ ΑΠΟ ΥΠΟΘΕΣΕΙΣ (ΠΡΟΤΟΥ ΑΚΟΜΑ ΓΙΝΕΙ ΤΟ ΠΕΙΡΑΜΑ) ΜΕΧΡΙ ΣΥΜΠΕΡΑΣΜΑΤΑ ΚΑΙ ΓΕΝΙΚΕΥΣΕΙΣ, ΑΦΟΥ ΤΟ ΠΕΙΡΑΜΑ ΘΑ ΕΧΕΙ ΛΑΒΕΙ ΧΩΡ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55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330033"/>
                </a:solidFill>
                <a:latin typeface="Times New Roman"/>
              </a:rPr>
              <a:t>ΔΕΞΙΟΤΗΤΕΣ ΤΩΝ ΜΑΘΗΤΩ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0033"/>
                </a:solidFill>
                <a:latin typeface="Times New Roman"/>
              </a:rPr>
              <a:t>ΝΑ ΠΡΟΧΩΡΗΣΟΥΝ ΜΕΣΩ ΤΗΣ ΣΥΝΕΡΓΑΣΙΑΣ ΣΤΗΝ ΑΝΑΚΑΛΥΨΗ, ΣΤΗΝ ΠΑΡΟΥΣΙΑΣΗ ΚΑΙ ΣΤΗ ΣΥΓΚΡΙΣΗ ΤΩΝ ΑΠΟΤΕΛΕΣΜΑΤΩΝ ΜΕ ΑΥΤΑ ΤΩΝ ΣΥΜΑΘΗΤΩΝ ΤΟΥΣ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KAI </a:t>
            </a:r>
            <a:r>
              <a:rPr b="0" lang="el-GR" sz="2400" spc="-1" strike="noStrike">
                <a:solidFill>
                  <a:srgbClr val="330033"/>
                </a:solidFill>
                <a:latin typeface="Times New Roman"/>
              </a:rPr>
              <a:t>ΣΤΗ ΣΥΝΘΕΣΗ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330033"/>
                </a:solidFill>
                <a:latin typeface="Times New Roman"/>
              </a:rPr>
              <a:t>ΜΕΘΟΔΟΣ ΕΡΓΑΣΙΑΣ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0033"/>
                </a:solidFill>
                <a:latin typeface="Times New Roman"/>
              </a:rPr>
              <a:t>ΕΡΜΗΝΕΥΤΙΚ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0033"/>
                </a:solidFill>
                <a:latin typeface="Times New Roman"/>
              </a:rPr>
              <a:t>ΚΑΤΕΥΘΥΝΟΜΕΝΟΣ ΔΙΑΛΟΓΟ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0033"/>
                </a:solidFill>
                <a:latin typeface="Times New Roman"/>
              </a:rPr>
              <a:t>ΑΝΑΚΑΛΥΠΤΙΚ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0033"/>
                </a:solidFill>
                <a:latin typeface="Times New Roman"/>
              </a:rPr>
              <a:t>ΟΜΑΔΟΣΥΝΕΡΓΑΤΙΚΗ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0033"/>
                </a:solidFill>
                <a:latin typeface="Times New Roman"/>
              </a:rPr>
              <a:t>ΠΕΙΡΑΜΑΤΙΚ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200" spc="-1" strike="noStrike">
                <a:solidFill>
                  <a:srgbClr val="330033"/>
                </a:solidFill>
                <a:latin typeface="Times New Roman"/>
              </a:rPr>
              <a:t>ΜΕΣΑ - ΥΛΙΚΑ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144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0033"/>
                </a:solidFill>
                <a:latin typeface="Times New Roman"/>
              </a:rPr>
              <a:t>ΤΡΕΙΣ ΣΩΛΗΝΕΣ ΜΕ ΦΥΣΑΛΙΔΑ</a:t>
            </a:r>
            <a:r>
              <a:rPr b="0" lang="en-US" sz="2800" spc="-1" strike="noStrike">
                <a:solidFill>
                  <a:srgbClr val="330033"/>
                </a:solidFill>
                <a:latin typeface="Times New Roman"/>
              </a:rPr>
              <a:t>,</a:t>
            </a:r>
            <a:r>
              <a:rPr b="0" lang="el-GR" sz="2800" spc="-1" strike="noStrike">
                <a:solidFill>
                  <a:srgbClr val="330033"/>
                </a:solidFill>
                <a:latin typeface="Times New Roman"/>
              </a:rPr>
              <a:t> Η ΟΠΟΙΑ ΚΙΝΕΙΤΑΙ ΜΕ ΣΤΑΘΕΡΗ ΤΑΧΥΤΗΤΑ ΔΙΑΦΟΡΕΤΙΚΟΥ ΜΕΤΡΟΥ ΣΤΟΝ ΚΑΘΕ ΣΩΛΗ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0033"/>
                </a:solidFill>
                <a:latin typeface="Times New Roman"/>
              </a:rPr>
              <a:t>ΧΑΡΤΙΝΟΙ ΧΑΡΑΚΕ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0033"/>
                </a:solidFill>
                <a:latin typeface="Times New Roman"/>
              </a:rPr>
              <a:t>ΧΡΟΝΟΜΕΤ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0033"/>
                </a:solidFill>
                <a:latin typeface="Times New Roman"/>
              </a:rPr>
              <a:t>ΦΥΛΛΑ ΕΡΓΑΣΙ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881600" y="3068640"/>
            <a:ext cx="38448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33"/>
                </a:solidFill>
                <a:latin typeface="Times New Roman"/>
              </a:rPr>
              <a:t>ΠΟΡΕΙΑ ΜΑΘΗΜΑΤΟΣ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TextBox 1"/>
          <p:cNvSpPr/>
          <p:nvPr/>
        </p:nvSpPr>
        <p:spPr>
          <a:xfrm>
            <a:off x="755640" y="1773360"/>
            <a:ext cx="8569440" cy="521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0033"/>
                </a:solidFill>
                <a:latin typeface="Times New Roman"/>
              </a:rPr>
              <a:t>ΑΝΑΚΛΗΣΗ ΠΡΟΗΓΟΥΜΕΝΩΝ ΓΝΩΣΕΩΝ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: </a:t>
            </a: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ΜΕΣΗ ΑΡΙΘΜΗΤΙΚΗ ΤΑΧΥΤΗΤΑ, ΜΕΣΗ ΔΙΑΝΥΣΜΑΤΙΚΗ ΤΑΧΥΤΗΤΑ, ΤΑΧΥΤΗΤ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0033"/>
                </a:solidFill>
                <a:latin typeface="Times New Roman"/>
              </a:rPr>
              <a:t>ΑΦΟΡΜΗΣΗ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: </a:t>
            </a: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ΑΥΤΟΚΙΝΗΤΟ ΚΙΝΟΥΜΕΝΟ ΣΕ ΑΥΤΟΚΙΝΗΤΟΔΡΟΜΟ  ΣΕ ΕΥΘΥ ΔΡΟΜΟ ΜΕ ΑΥΤΟΜΟΤΟ ΠΙΛΟΤΟ – ΑΕΡΟΠΛΑΝΟ ΠΟ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ΠΕΤΑ ΣΕ ΣΤΑΘΕΡΟ ΥΨΟ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0033"/>
                </a:solidFill>
                <a:latin typeface="Times New Roman"/>
              </a:rPr>
              <a:t>ΑΝΑΓΝΩΡΙΣΗ ΦΥΣΙΚΩΝ ΜΕΓΕΘΩΝ -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ΚΑΤΑΤΑΓΡΑΦΗ ΤΟΥΣ ΣΤΟ ΦΥΛΛΟ ΕΡΓΑΣΙ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0033"/>
                </a:solidFill>
                <a:latin typeface="Times New Roman"/>
              </a:rPr>
              <a:t>ΥΠΟΘΕΣΗ</a:t>
            </a: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0033"/>
                </a:solidFill>
                <a:latin typeface="Times New Roman"/>
              </a:rPr>
              <a:t>ΠΕΙΡΑΜΑ</a:t>
            </a: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: </a:t>
            </a: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ΜΕΤΡΗΣΕΙΣ ΤΗΣ ΜΕΤΑΤΟΠΙΣΗΣ – ΧΡΟΝΙΚΗΣ ΔΙΑΡΚΕΙΑΣ 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- </a:t>
            </a: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ΚΑΤΑΓΡΑΦΗ ΤΟΥΣ ΣΤΟ ΦΥΛΛΟ ΕΡΓΑΣΙΑ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Box 4"/>
          <p:cNvSpPr/>
          <p:nvPr/>
        </p:nvSpPr>
        <p:spPr>
          <a:xfrm>
            <a:off x="755640" y="1773360"/>
            <a:ext cx="8569440" cy="38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  </a:t>
            </a:r>
            <a:r>
              <a:rPr b="1" lang="el-GR" sz="2000" spc="-1" strike="noStrike">
                <a:solidFill>
                  <a:srgbClr val="330033"/>
                </a:solidFill>
                <a:latin typeface="Times New Roman"/>
              </a:rPr>
              <a:t>ΕΠΕΞΕΡΓΑΣΙΑ ΤΩΝ ΜΕΤΡΗΣΕΩΝ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0033"/>
                </a:solidFill>
                <a:latin typeface="Times New Roman"/>
              </a:rPr>
              <a:t>ΣΧΕΔΙΟ ΤΟΥ ΣΩΛΗΝΑ ΜΕ ΚΛΙΜΑΚΑ ΤΗΣ ΔΙΚΗΣ ΤΟΥΣ ΕΠΙΛΟΓΗΣ -</a:t>
            </a:r>
            <a:r>
              <a:rPr b="0" lang="en-US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r>
              <a:rPr b="0" lang="el-GR" sz="2400" spc="-1" strike="noStrike">
                <a:solidFill>
                  <a:srgbClr val="330033"/>
                </a:solidFill>
                <a:latin typeface="Times New Roman"/>
              </a:rPr>
              <a:t>ΚΑΤΑΓΡΑΦΗ ΤΩΝ ΘΕΣΕΩΝ ΤΗ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0" lang="el-GR" sz="2400" spc="-1" strike="noStrike">
                <a:solidFill>
                  <a:srgbClr val="330033"/>
                </a:solidFill>
                <a:latin typeface="Times New Roman"/>
              </a:rPr>
              <a:t>ΦΥΣΑΛΙΔΑΣ ΜΕ ΤΙΣ ΑΝΤΙΣΤΟΙΧΕΣ ΧΡΟΝΙΚΕΣ ΣΤΙΓΜΕ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0033"/>
                </a:solidFill>
                <a:latin typeface="Times New Roman"/>
              </a:rPr>
              <a:t>    </a:t>
            </a:r>
            <a:r>
              <a:rPr b="1" lang="el-GR" sz="2400" spc="-1" strike="noStrike">
                <a:solidFill>
                  <a:srgbClr val="330033"/>
                </a:solidFill>
                <a:latin typeface="Times New Roman"/>
              </a:rPr>
              <a:t>ΣΕ ΙΣΑ ΧΡΟΝΙΚΑ ΔΙΑΣΤΗΜΑΤΑ ΙΣΕΣ ΜΕΤΑΤΟΠΙ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Down Arrow 5"/>
          <p:cNvSpPr/>
          <p:nvPr/>
        </p:nvSpPr>
        <p:spPr>
          <a:xfrm>
            <a:off x="4788000" y="4051440"/>
            <a:ext cx="503280" cy="504720"/>
          </a:xfrm>
          <a:prstGeom prst="downArrow">
            <a:avLst>
              <a:gd name="adj1" fmla="val 50000"/>
              <a:gd name="adj2" fmla="val 50143"/>
            </a:avLst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33"/>
                </a:solidFill>
                <a:latin typeface="Times New Roman"/>
              </a:rPr>
              <a:t>ΠΟΡΕΙΑ ΜΑΘΗΜΑΤΟΣ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333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0033"/>
                </a:solidFill>
                <a:latin typeface="Times New Roman"/>
              </a:rPr>
              <a:t>ΠΟΡΕΙΑ ΜΑΘΗΜΑΤΟΣ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TextBox 5"/>
          <p:cNvSpPr/>
          <p:nvPr/>
        </p:nvSpPr>
        <p:spPr>
          <a:xfrm>
            <a:off x="755640" y="1773360"/>
            <a:ext cx="8569440" cy="55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3300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0033"/>
                </a:solidFill>
                <a:latin typeface="Arial"/>
              </a:rPr>
              <a:t>  </a:t>
            </a:r>
            <a:r>
              <a:rPr b="1" lang="el-GR" sz="2000" spc="-1" strike="noStrike">
                <a:solidFill>
                  <a:srgbClr val="330033"/>
                </a:solidFill>
                <a:latin typeface="Times New Roman"/>
              </a:rPr>
              <a:t>ΕΠΕΞΕΡΓΑΣΙΑ ΤΩΝ ΜΕΤΡΗΣΕΩΝ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33003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ΕΞΑΓΩΓΗ ΤΗΣ ΣΧΕΣΗΣ ΤΗΣ ΜΕΤΑΤΟΠΙΣΗΣ ΣΕ ΣΧΕΣΗ ΜΕ ΤΗ ΧΡΟΝΙΚΗ ΔΙΑΡΚΕΙΑ ΣΤΙΣ ΟΜΑΔΕΣ ΜΕ ΤΗΝ ΚΑΘΟΔΗΓΗΣ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     </a:t>
            </a: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ΤΟΥ ΚΑΘΗΓΗΤ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ΑΝΑΚΟΙΝΩΣΗ ΤΗΣ ΣΧΕΣΗΣ ΤΗΣ Κ</a:t>
            </a:r>
            <a:r>
              <a:rPr b="0" lang="en-US" sz="2000" spc="-1" strike="noStrike">
                <a:solidFill>
                  <a:srgbClr val="330033"/>
                </a:solidFill>
                <a:latin typeface="Times New Roman"/>
              </a:rPr>
              <a:t>A</a:t>
            </a: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ΘΕ ΟΜΑΔΑΣ ΣΤΗ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ΟΛΟΜΕΛΕΙΑ ΤΗΣ ΤΑΞ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      </a:t>
            </a:r>
            <a:r>
              <a:rPr b="0" lang="el-GR" sz="2000" spc="-1" strike="noStrike">
                <a:solidFill>
                  <a:srgbClr val="330033"/>
                </a:solidFill>
                <a:latin typeface="Times New Roman"/>
              </a:rPr>
              <a:t>ΣΥΓΚΡΙΣΗ ΤΩΝ ΣΧΕΣΕΩΝ ΚΑΙ ΕΠΙΔΕΙΞΗ ΤΩΝ ΤΡΙΩΝ ΣΩΛΗΝΩ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0033"/>
                </a:solidFill>
                <a:latin typeface="Times New Roman"/>
              </a:rPr>
              <a:t>ΣΤΑΘΕΡΗ ΤΑΧΥΤΗ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Down Arrow 6"/>
          <p:cNvSpPr/>
          <p:nvPr/>
        </p:nvSpPr>
        <p:spPr>
          <a:xfrm>
            <a:off x="4427640" y="3279600"/>
            <a:ext cx="757080" cy="4334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Down Arrow 7"/>
          <p:cNvSpPr/>
          <p:nvPr/>
        </p:nvSpPr>
        <p:spPr>
          <a:xfrm>
            <a:off x="4427640" y="5589720"/>
            <a:ext cx="75708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Down Arrow 8"/>
          <p:cNvSpPr/>
          <p:nvPr/>
        </p:nvSpPr>
        <p:spPr>
          <a:xfrm>
            <a:off x="4435560" y="4621320"/>
            <a:ext cx="755640" cy="43164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cc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1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2T09:55:07Z</dcterms:created>
  <dc:creator>papaleontiou</dc:creator>
  <dc:description/>
  <dc:language>en-US</dc:language>
  <cp:lastModifiedBy>user</cp:lastModifiedBy>
  <cp:lastPrinted>2015-10-14T15:09:46Z</cp:lastPrinted>
  <dcterms:modified xsi:type="dcterms:W3CDTF">2015-10-28T15:44:44Z</dcterms:modified>
  <cp:revision>387</cp:revision>
  <dc:subject/>
  <dc:title>ioustinianos</dc:title>
</cp:coreProperties>
</file>