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99C6-59CA-41D7-AD6E-49276A14A3E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BF3C-76D0-4C0B-BA21-3634E71F832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CBD-33C9-4B7D-A963-71ABD6C6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8B6-84E2-42E8-B1DA-6235B600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425-06C9-48DC-AA04-E589C959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53E-BA68-41C1-8582-A5B67D8E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050B-6834-4B1F-95DB-FA0304B3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6B91-E278-460D-8E1C-05703E3F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7CBB-9F90-4A90-AA05-544470EF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2EDB-6150-4F3F-A15A-B860ABD0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2AE1-E644-411F-8563-AB778F97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9657-8EEF-4294-99C8-616F763F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839B-12A0-4796-86E6-CE220180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7A5-093F-4A15-B06F-C3BEAD54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B2BE-16D2-405C-9BC4-5B95E07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4F70-A84E-47FE-9BDB-27E2298D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2AFB-52AC-4B1D-907E-BA4951D1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3966-DE95-4116-8FC5-99711084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E11F-E743-471C-A49B-36CCDD82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F0E4-EE99-478E-9F09-6DA0D370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3D41D-0BCE-4E18-AF54-6067DCB0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A9FF7-07EB-4B4D-8C73-43ED23A2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8399-7908-4C79-8D4D-948449A0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09D60-91D4-4437-8BEC-E8C10837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046-B03D-4B7C-823D-8A010172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47A2F-3250-4336-82D3-266E615A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3123-5D7E-431E-B38D-66A1D6A6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2E64-F25B-4519-96EC-D0E04F97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48A25-0BC6-4244-8344-A7190CAC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4936-3152-4DAD-AD3F-E13CD6AA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2AD7-A0BE-4CF7-B0ED-43E19AE2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F066-79A2-4A5F-B124-3E819366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59B82-1DBD-4E37-A0FA-16F62EDC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8E40-D485-42D8-B1CA-3975FC32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AAFED-2AD7-44BF-9210-AF41661D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016-16B7-4F08-8EB3-ED70E92B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FC45-36AD-424E-8FB2-B3826C8F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DE02-9DEC-447A-85C1-AD1DED0B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8C6D8-9B9A-4E7F-8990-60546385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91AFA-3E8C-4FC8-B6A2-322FAA4B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F0EE1-AA1F-4F17-983A-0672F769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AE4D-5F03-40A0-A1B6-253FE8F2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76870-F59F-4CF6-81BF-3A9EBDEA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D88CB-888C-469D-87B0-36FFDFC8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D220D-CE1A-488C-9A39-81DC44DC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9A7-9AEA-4DAA-8158-30DBA648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223-BEAA-427A-8315-BA16A363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A1C-02EC-423F-AD49-7E2E5951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111-F631-4DC4-8C9E-C614A1C0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236-AF21-45F3-A326-96F4769F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A0FC-DF22-43CA-BBC4-0499ED4FD9C3}" type="slidenum">
              <a:rPr b="0" lang="el-G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B921-EDB1-46FB-BAEB-AA0652EB4D26}" type="slidenum">
              <a:rPr b="0" lang="el-G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B3B6-9119-46A4-B7C7-B52F0B2D0403}" type="slidenum">
              <a:rPr b="0" lang="el-G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B9CF-0B7D-4435-9AD9-E13B2B6FB102}" type="slidenum">
              <a:rPr b="0" lang="el-G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16000" y="3621240"/>
            <a:ext cx="684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76a3"/>
                </a:solidFill>
                <a:latin typeface="Comic Sans MS"/>
              </a:rPr>
              <a:t>«Παρέχουν άνετες βιοκλιματικές συνθήκες για να χρησιμοποιούνται ως αίθουσες διδασκαλίας;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684360" y="907920"/>
            <a:ext cx="7775280" cy="1873440"/>
          </a:xfrm>
          <a:prstGeom prst="rect">
            <a:avLst/>
          </a:prstGeom>
          <a:solidFill>
            <a:srgbClr val="0bd0d9"/>
          </a:solidFill>
          <a:ln w="255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TextBox 4" descr=""/>
          <p:cNvPicPr/>
          <p:nvPr/>
        </p:nvPicPr>
        <p:blipFill>
          <a:blip r:embed="rId1"/>
          <a:stretch/>
        </p:blipFill>
        <p:spPr>
          <a:xfrm>
            <a:off x="0" y="725400"/>
            <a:ext cx="9144000" cy="229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75564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f6fc6"/>
                </a:solidFill>
                <a:latin typeface="Arial"/>
                <a:ea typeface="Arial"/>
              </a:rPr>
              <a:t>Οφέλη που προκύπτουν από την ένταξη ερευνητικών</a:t>
            </a:r>
            <a:r>
              <a:rPr b="1" lang="en-US" sz="28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r>
              <a:rPr b="1" lang="el-GR" sz="2800" spc="-1" strike="noStrike">
                <a:solidFill>
                  <a:srgbClr val="0f6fc6"/>
                </a:solidFill>
                <a:latin typeface="Arial"/>
                <a:ea typeface="Arial"/>
              </a:rPr>
              <a:t>εργασιών στην εκπαιδευτική διαδικασία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848720" cy="457200"/>
          </a:xfrm>
          <a:prstGeom prst="rect">
            <a:avLst/>
          </a:prstGeom>
          <a:solidFill>
            <a:srgbClr val="cbeac0"/>
          </a:solidFill>
          <a:ln w="1260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b5395"/>
                </a:solidFill>
                <a:latin typeface="Arial"/>
                <a:ea typeface="Arial"/>
              </a:rPr>
              <a:t>Τρόπος επιλογής της ερευνητικής ομάδας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24000" y="1125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f6f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Γίνεται ανακοίνωση για το διαγωνισμό σε όλους τους μαθητές του σχολείου στην πινακίδα του κεντρικού μαθητικού συμβουλίου καθώς και στις τάξεις</a:t>
            </a: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324000" y="2349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f6f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Όσοι ενδιαφέρονται, κάνουμε την πρώτη μας συνάντηση όπου εκεί αναφέρω περισσότερα για το διαγωνισμό και τις απαιτήσεις 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-181080" y="3500280"/>
            <a:ext cx="93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f6f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  <a:ea typeface="Arial"/>
              </a:rPr>
              <a:t>Η σωστή επιλογή των ατόµων είναι ο υπ’ αριθµόν ένα καθοριστικός παράγοντας της επιτυχίας της οµάδας. Στόχος μου είναι να συνθέσω  μια ομάδα που να θέλει να εργαστεί και να µπορεί να συνεργάζεται αρµονικά µε οποιονδήποτε</a:t>
            </a:r>
            <a:r>
              <a:rPr b="0" lang="en-US" sz="2400" spc="-1" strike="noStrike">
                <a:solidFill>
                  <a:srgbClr val="0f6fc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50920" y="5084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f6fc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Το επόµενο βήµα είναι ο καθορισµός των στόχων της οµάδας. Ταυτόχρονα επιλέγεται ένας μαθητής, ο οποίος θα είναι ο επικεφαλής και ο εμψυχωτής της ομάδ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539640" y="765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f6f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Η οργάνωση των συναντήσεων της ομάδας είναι µία βασική διαδικασία για την αποτελεσµατικότητα της εργασίας για αυτό κάνουμε μαζί ένα χρονοδιάγραμ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39640" y="19890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f6f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Κατα την πρώτη συνάντηση γίνεται κατανομή εργασιών όπου ο καθένας αποδέχεται και δεσμεύεται για την υλοποίησή 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611280" y="4581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f6f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Γίνεται προσπάθεια για  ενεργή συμμετοχή όλων των παιδιών καθώς και αντιμετώπιση συγκρούσεων και διαφωνιώ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539640" y="32846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f6f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Η επίτευξη οµοφωνίας σε θέµατα στόχων και κανόνων δηµιουργεί στα µέλη αισθήµατα εµπιστοσύνης, συνοχής και αισιοδοξίας</a:t>
            </a: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848360" cy="927000"/>
          </a:xfrm>
          <a:prstGeom prst="rect">
            <a:avLst/>
          </a:prstGeom>
          <a:solidFill>
            <a:srgbClr val="cbeac0"/>
          </a:solidFill>
          <a:ln w="9360">
            <a:solidFill>
              <a:srgbClr val="0b5395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4617b"/>
                </a:solidFill>
                <a:latin typeface="Arial"/>
                <a:ea typeface="Arial"/>
              </a:rPr>
              <a:t>Δυσκολίες και προβλήματα κατά την πραγματοποίηση της ερευνητικής εργασίας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250920" y="148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6fc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Μη εξεύρεση αξιόπιστων οργάνων</a:t>
            </a: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μέτρησ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250920" y="2492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f6fc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Αν και χρειάστηκε αρκετός χρόνος τόσο για τις μετρήσεις όσο και για την έρευνα, έπρεπε να προνοήσουμε ώστε να μην υπήρχε απώλεια διδακτικού χρόν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324000" y="386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Δεν υπάρχει βιβλιογραφία σε σχολικές βιβλιοθήκ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324000" y="4724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f6fc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Μετρούσαμε καθημερινά την κατανάλωση ηλεκτρικής ενέργειας και νερού – Δεν υπήρχαν άλλες συγκρίσεις στις αρμόδιες υπηρεσίες που θα βοηθούσαν τη μελέτη μ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31640" y="620640"/>
            <a:ext cx="6769080" cy="504720"/>
          </a:xfrm>
          <a:prstGeom prst="rect">
            <a:avLst/>
          </a:prstGeom>
          <a:solidFill>
            <a:srgbClr val="cbeac0"/>
          </a:solidFill>
          <a:ln w="9360">
            <a:solidFill>
              <a:srgbClr val="0b5395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4617b"/>
                </a:solidFill>
                <a:latin typeface="Arial"/>
                <a:ea typeface="Arial"/>
              </a:rPr>
              <a:t>Εμπειρίες των συντονιστών καθηγητών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Rectangle 3" descr=""/>
          <p:cNvPicPr/>
          <p:nvPr/>
        </p:nvPicPr>
        <p:blipFill>
          <a:blip r:embed="rId1"/>
          <a:stretch/>
        </p:blipFill>
        <p:spPr>
          <a:xfrm>
            <a:off x="469800" y="1298520"/>
            <a:ext cx="6620040" cy="646200"/>
          </a:xfrm>
          <a:prstGeom prst="rect">
            <a:avLst/>
          </a:prstGeom>
          <a:ln w="0">
            <a:noFill/>
          </a:ln>
        </p:spPr>
      </p:pic>
      <p:pic>
        <p:nvPicPr>
          <p:cNvPr id="231" name="Rectangle 4" descr=""/>
          <p:cNvPicPr/>
          <p:nvPr/>
        </p:nvPicPr>
        <p:blipFill>
          <a:blip r:embed="rId2"/>
          <a:stretch/>
        </p:blipFill>
        <p:spPr>
          <a:xfrm>
            <a:off x="469800" y="1944720"/>
            <a:ext cx="7723440" cy="137808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1" descr=""/>
          <p:cNvPicPr/>
          <p:nvPr/>
        </p:nvPicPr>
        <p:blipFill>
          <a:blip r:embed="rId3"/>
          <a:stretch/>
        </p:blipFill>
        <p:spPr>
          <a:xfrm>
            <a:off x="469800" y="3170160"/>
            <a:ext cx="8131320" cy="10112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539640" y="4221000"/>
            <a:ext cx="822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0c9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Οι καθηγητές – συντονιστές βιώνουν άγχος αλλά και συναισθήματα ικανοποίησης καθώς επιτυγχάνονται οι στόχοι 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f6f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704360" cy="936720"/>
          </a:xfrm>
          <a:prstGeom prst="rect">
            <a:avLst/>
          </a:prstGeom>
          <a:solidFill>
            <a:srgbClr val="cbeac0"/>
          </a:solidFill>
          <a:ln w="9360">
            <a:solidFill>
              <a:srgbClr val="0b5395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4617b"/>
                </a:solidFill>
                <a:latin typeface="Arial"/>
                <a:ea typeface="Arial"/>
              </a:rPr>
              <a:t>Οφέλη που προκύπτουν από τη συμμετοχή των μαθητών σε ερευνητικές εργασίες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79280" y="14842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bd0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Αποκτούν τόσο κοινωνικές όσο και επικοινωνιακές δεξιότητες μέσω της ομαδικής εργασίας. Κάθε άτομο είναι υπεύθυνο για την προσωπική του συμβολή στην ομάδ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9280" y="4076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bd0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Αποκτούν εμπιστοσύνη  μεταξύ τους ως απότοκο να εξασφαλίζεται η ψυχική τους υγεί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79280" y="566100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bd0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Αναπτύσσεται η δημιουργική και κριτική τους σκέψη καθώς και η ικανότητά τους να επιλύουν προβλήματ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Rectangle 9" descr=""/>
          <p:cNvPicPr/>
          <p:nvPr/>
        </p:nvPicPr>
        <p:blipFill>
          <a:blip r:embed="rId1"/>
          <a:stretch/>
        </p:blipFill>
        <p:spPr>
          <a:xfrm>
            <a:off x="109440" y="2736720"/>
            <a:ext cx="8748720" cy="13780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79280" y="501336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bd0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Αποκτούν αυτοπεποίθηση και πρωτοβουλί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684360" y="7650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f6f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Αναλύουν πληροφορίες - κάνουν συνεχώς ομαδική συζήτηση και αξιολόγηση της μελέτης τους, έτσι αναπτύσσουν ικανότητα ακρόασης, διαπραγμάτευσης και λήψης αποφάσε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84360" y="2421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Μαθαίνουν να διαχειρίζονται το χρόνο 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84360" y="3068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Αποκτούν οργανωτικές - διοικητικές ικανότητες και αναλαμβάνουν ευθύν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755640" y="40766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f6fc6"/>
                </a:solidFill>
                <a:latin typeface="Arial"/>
              </a:rPr>
              <a:t>O</a:t>
            </a: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ι</a:t>
            </a:r>
            <a:r>
              <a:rPr b="0" lang="sv-SE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f6fc6"/>
                </a:solidFill>
                <a:latin typeface="Arial"/>
              </a:rPr>
              <a:t>μαθητές μαθαίνουν να βλέπουν ένα ζήτημα από διάφορες πλευρέ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Content Placeholder 2" descr=""/>
          <p:cNvPicPr/>
          <p:nvPr/>
        </p:nvPicPr>
        <p:blipFill>
          <a:blip r:embed="rId1"/>
          <a:stretch/>
        </p:blipFill>
        <p:spPr>
          <a:xfrm>
            <a:off x="396720" y="981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4500720" y="26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f6fc6"/>
                </a:solidFill>
                <a:latin typeface="Arial"/>
              </a:rPr>
              <a:t>Μουγιάση Ήβ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4:24:41Z</dcterms:created>
  <dc:creator>Eve</dc:creator>
  <dc:description/>
  <dc:language>en-US</dc:language>
  <cp:lastModifiedBy>user</cp:lastModifiedBy>
  <dcterms:modified xsi:type="dcterms:W3CDTF">2013-05-28T14:37:59Z</dcterms:modified>
  <cp:revision>70</cp:revision>
  <dc:subject/>
  <dc:title>Slide 1</dc:title>
</cp:coreProperties>
</file>