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2.jpeg" ContentType="image/jpeg"/>
  <Override PartName="/ppt/media/image13.png" ContentType="image/png"/>
  <Override PartName="/ppt/media/image11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0.wmf" ContentType="image/x-wmf"/>
  <Override PartName="/ppt/media/image3.png" ContentType="image/png"/>
  <Override PartName="/ppt/media/image28.png" ContentType="image/png"/>
  <Override PartName="/ppt/media/image27.wmf" ContentType="image/x-wmf"/>
  <Override PartName="/ppt/media/image16.jpeg" ContentType="image/jpeg"/>
  <Override PartName="/ppt/media/image24.wmf" ContentType="image/x-wmf"/>
  <Override PartName="/ppt/media/image23.jpeg" ContentType="image/jpeg"/>
  <Override PartName="/ppt/media/image21.jpeg" ContentType="image/jpeg"/>
  <Override PartName="/ppt/media/image22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26.wmf" ContentType="image/x-wmf"/>
  <Override PartName="/ppt/media/image15.jpeg" ContentType="image/jpe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7421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C01A-0442-4729-9864-02CEBED9E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8B47-D17E-4812-9182-06858F6E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0D8D-907B-4313-BB30-7A0C9B1DD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998E-DCCD-4284-AA81-A72F1CCEA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54FC-2EFF-4F3C-966A-F7C88D3C5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C3A5-A95E-4006-8DE0-3D16F9A7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2609-9F3C-47A5-A207-5D0A7804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EC3C-A9AF-469A-A40A-F2DB6488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CB89-DD77-4485-83A2-2824E5CB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7842-9C9C-4299-ADE4-49BB28A0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D72B-A854-4467-A52A-7484482F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4916-424D-47D0-8D60-59D3158D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EBE2-E762-484B-B20C-9D62605B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3106-8EF8-4780-BDC4-30BAD45B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073C-C9D3-4BE3-8745-FDB0F917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6595A-3ABA-4F02-B36E-628B848D2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761F-40B0-478D-87C1-CE808AEE3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7C09-6052-4D7E-99A0-B1827429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081F-ED10-494C-B6A5-5174D214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A0A2-4973-48A5-8316-4A0CC6D6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D543-36B8-4626-A5FC-8A9C49F2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4E91-590D-4716-8BEF-354E94D9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5113-2996-46EB-BA7E-8730AC9A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63C7-AE03-49CB-8AB0-196F7B83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6103-19A0-4D92-A6EF-1E368BC51E71}" type="slidenum"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FE55-B665-43C5-AA41-7FE998D64597}" type="slidenum"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ime.gr/chronos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63640" y="1413000"/>
            <a:ext cx="662472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0033"/>
                </a:solidFill>
                <a:latin typeface="Times New Roman"/>
              </a:rPr>
              <a:t>Μεσαιωνική και Νεότερη Ιστορία</a:t>
            </a:r>
            <a:r>
              <a:rPr b="1" lang="el-GR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el-GR" sz="2800" spc="-1" strike="noStrike">
                <a:solidFill>
                  <a:srgbClr val="990033"/>
                </a:solidFill>
                <a:latin typeface="Times New Roman"/>
              </a:rPr>
              <a:t>Ιουστινιανός – Η Στάση του Νίκα</a:t>
            </a:r>
            <a:br>
              <a:rPr sz="2800"/>
            </a:br>
            <a:r>
              <a:rPr b="1" lang="el-GR" sz="2800" spc="-1" strike="noStrike">
                <a:solidFill>
                  <a:srgbClr val="330033"/>
                </a:solidFill>
                <a:latin typeface="Times New Roman"/>
              </a:rPr>
              <a:t>Διδακτικό σενάριο</a:t>
            </a:r>
            <a:r>
              <a:rPr b="1" lang="el-GR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789360"/>
            <a:ext cx="68580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0033"/>
                </a:solidFill>
                <a:latin typeface="Arial"/>
              </a:rPr>
              <a:t>Σχεδιασμός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  <a:ea typeface="SimSun"/>
              </a:rPr>
              <a:t> </a:t>
            </a:r>
            <a:r>
              <a:rPr b="1" lang="el-GR" sz="2000" spc="-1" strike="noStrike">
                <a:solidFill>
                  <a:srgbClr val="330033"/>
                </a:solidFill>
                <a:latin typeface="Arial"/>
              </a:rPr>
              <a:t>σεναρίου: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0033"/>
                </a:solidFill>
                <a:latin typeface="Arial"/>
              </a:rPr>
              <a:t>Μαρία Παπαλεοντίου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  <a:ea typeface="SimSun"/>
              </a:rPr>
              <a:t>, </a:t>
            </a:r>
            <a:r>
              <a:rPr b="1" lang="el-GR" sz="2000" spc="-1" strike="noStrike">
                <a:solidFill>
                  <a:srgbClr val="330033"/>
                </a:solidFill>
                <a:latin typeface="Arial"/>
              </a:rPr>
              <a:t>Φιλόλογο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Birds"/>
          <p:cNvPicPr/>
          <p:nvPr/>
        </p:nvPicPr>
        <p:blipFill>
          <a:blip r:embed="rId1"/>
          <a:stretch/>
        </p:blipFill>
        <p:spPr>
          <a:xfrm>
            <a:off x="2627280" y="3933720"/>
            <a:ext cx="4608720" cy="9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858920" y="1628640"/>
            <a:ext cx="3871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Για να εντοπίσετε το σκηνικό όπου διαδραματίστηκαν τα γεγονότα, παρατηρήστε το διπλανό τοπογραφικό σχέδι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Έτσι για να σας κατατοπίσω, βρισκόμαστε στη «βασίλισσα των πόλεων», την Πόλη με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κεφαλαί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k1ap1"/>
          <p:cNvPicPr/>
          <p:nvPr/>
        </p:nvPicPr>
        <p:blipFill>
          <a:blip r:embed="rId1"/>
          <a:stretch/>
        </p:blipFill>
        <p:spPr>
          <a:xfrm>
            <a:off x="936720" y="1727280"/>
            <a:ext cx="37432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4360" y="1628640"/>
            <a:ext cx="32400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ολύ σωστά καταλάβατε! Βρισκόμαστε  στην  </a:t>
            </a:r>
            <a:r>
              <a:rPr b="0" lang="el-GR" sz="2400" spc="-1" strike="noStrike">
                <a:solidFill>
                  <a:srgbClr val="990033"/>
                </a:solidFill>
                <a:latin typeface="Arial"/>
              </a:rPr>
              <a:t>Κωνσταντινούπολη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ου λεγόταν και Επτάλοφη. Το γιατί θα το μάθετε, αν παρατηρήσετε την εικόνα και διαβάσετε τη λεζάντα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284360" y="4292640"/>
            <a:ext cx="460836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0033"/>
                </a:solidFill>
                <a:latin typeface="Arial"/>
              </a:rPr>
              <a:t>Η Κωνσταντινούπολη χτίστηκε σε επτ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0033"/>
                </a:solidFill>
                <a:latin typeface="Arial"/>
              </a:rPr>
              <a:t>οχυρωμένους από τη στεριά λόφου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0033"/>
                </a:solidFill>
                <a:latin typeface="Arial"/>
              </a:rPr>
              <a:t>που «κατέβαιναν» ομαλά ως τ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0033"/>
                </a:solidFill>
                <a:latin typeface="Arial"/>
              </a:rPr>
              <a:t>θάλασσα της Προποντίδας, το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0033"/>
                </a:solidFill>
                <a:latin typeface="Arial"/>
              </a:rPr>
              <a:t>Βοσπόρου και του Κεράτιου Κόλπο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60072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Βέβαια, μετά την άλωση της Πόλης (το 1453 μ.Χ.) της άλλαξαν το όνομα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ς επιστρέψουμε, όμως στο θέμα μας. Αλήθεια, σε ποια εποχή είπαμε ότι ταξιδέψαμε; Μα στην </a:t>
            </a:r>
            <a:r>
              <a:rPr b="0" lang="el-GR" sz="2800" spc="-1" strike="noStrike">
                <a:solidFill>
                  <a:srgbClr val="990033"/>
                </a:solidFill>
                <a:latin typeface="Arial"/>
              </a:rPr>
              <a:t>Πρωτοβυζαντινή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, βέβαια, στον 6ο αιώνα μ.Χ. Και για να μην παιδεύεστε θα σας πω και τη χρονολογία: Ιανουάρι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ου 53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ο σκηνικ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πιο συγκεκριμέν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τοποθετείται στον </a:t>
            </a:r>
            <a:r>
              <a:rPr b="0" lang="el-GR" sz="2800" spc="-1" strike="noStrike">
                <a:solidFill>
                  <a:srgbClr val="990033"/>
                </a:solidFill>
                <a:latin typeface="Arial"/>
              </a:rPr>
              <a:t>Ιππόδρομο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της Κωνσταντινούπολη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3441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ας ακούω που ψιθυρίζετε έκπληκτοι «Μα τι λέει αυτός; Τι θα δούμε στον ιππόδρομο; Μάχη ή καμιά κούρσα με άλογα;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η βιάζεστε... Προσέξτε λίγο να δούμε, μήπως η λέξη </a:t>
            </a:r>
            <a:r>
              <a:rPr b="1" i="1" lang="el-GR" sz="2400" spc="-1" strike="noStrike">
                <a:solidFill>
                  <a:srgbClr val="da8adc"/>
                </a:solidFill>
                <a:latin typeface="Arial"/>
              </a:rPr>
              <a:t>ιππόδρομο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είχε και καμιά άλλη σημασία εκτός από τη σημερινή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0" y="1599840"/>
            <a:ext cx="41148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ι πηγές και οι εικόνες που ακολουθούν*, θα σας φωτίσουν περισσότερο για να κάνετε τους παραλληλισμούς και τις συγκρίσεις σας με σύγχρονες καταστάσεις που γνωρίζετε πολύ καλά (ιδίως τα αγόρια!).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0033"/>
                </a:solidFill>
                <a:latin typeface="Arial"/>
              </a:rPr>
              <a:t>[* κυρίως από την ιστοσελίδα του Ιδρύματος Μείζονος Ελληνισμού, </a:t>
            </a: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www.ime.gr/chronos</a:t>
            </a:r>
            <a:r>
              <a:rPr b="0" lang="el-GR" sz="1800" spc="-1" strike="noStrike">
                <a:solidFill>
                  <a:srgbClr val="330033"/>
                </a:solidFill>
                <a:latin typeface="Arial"/>
              </a:rPr>
              <a:t>, και από το εκπαιδευτικό πρόγραμμα ΜΕΛΙΝΑ, </a:t>
            </a:r>
            <a:r>
              <a:rPr b="0" i="1" lang="el-GR" sz="1800" spc="-1" strike="noStrike">
                <a:solidFill>
                  <a:srgbClr val="330033"/>
                </a:solidFill>
                <a:latin typeface="Arial"/>
              </a:rPr>
              <a:t>Ψηφίδες Βυζαντίου – Η κοινωνική ζωή στο Βυζάντιο</a:t>
            </a:r>
            <a:r>
              <a:rPr b="0" lang="el-GR" sz="1800" spc="-1" strike="noStrike">
                <a:solidFill>
                  <a:srgbClr val="330033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0033"/>
                </a:solidFill>
                <a:latin typeface="Arial"/>
              </a:rPr>
              <a:t>Ώρα για μελέτη!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00000" y="1628280"/>
            <a:ext cx="763272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330033"/>
                </a:solidFill>
                <a:latin typeface="Arial"/>
              </a:rPr>
              <a:t>Μελέτη πηγών (εργασία σε ομάδες) - α΄ φάσ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ΙΠΠΟΔΡΟΜΟΣ ΚΑΙ ΔΗΜΟΙ ΣΤΟ ΒΥΖΑΝΤΙ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ηγή 1 - Ο ιππόδρομος στο Βυζάντι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ηγή 2 - 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πόδρομος της Κωνσταντινούπολ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ηγή 3 - Μια μέρα στο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πόδρομο της Κων/πολ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ηγή 4 - 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πόδρομος και οι δήμο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ηγή 5 - Ονομασία δήμω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ηγή 6 - Οι Πράσινοι και οι Βένετο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0033"/>
                </a:solidFill>
                <a:latin typeface="Arial"/>
              </a:rPr>
              <a:t>Ανακοινώσεις ομάδων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58560" y="1844640"/>
            <a:ext cx="704196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 λόγος σε σας, τώρα παιδιά, για να ανακοινώσετε τα κύρια σημεία που βρήκατε στις πηγέ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ι εικόνες που ακολουθούν θα μας βοηθήσουν να αποκτήσουμε πιο ολοκληρωμένη εικόνα για το θέμ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990033"/>
                </a:solidFill>
                <a:latin typeface="Times New Roman"/>
              </a:rPr>
              <a:t>Παρατηρήστε τον Ιππόδρομο της Κωνσταντινούπολης εν ώρα δράσης..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481800" cy="3930480"/>
          </a:xfrm>
          <a:prstGeom prst="rect">
            <a:avLst/>
          </a:prstGeom>
          <a:ln w="9360">
            <a:solidFill>
              <a:srgbClr val="df9a8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8343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90033"/>
                </a:solidFill>
                <a:latin typeface="Times New Roman"/>
              </a:rPr>
              <a:t>Κοιτάξτε, επίσης, στ’ αριστερά μια αναπαράστασή του και στα δεξιά τη σημερινή του εικόνα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 rot="5400000">
            <a:off x="394560" y="2276640"/>
            <a:ext cx="4394160" cy="3097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2"/>
          <a:stretch/>
        </p:blipFill>
        <p:spPr>
          <a:xfrm>
            <a:off x="4932360" y="1700280"/>
            <a:ext cx="3125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76360" y="1698120"/>
            <a:ext cx="187164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58920" y="1916280"/>
            <a:ext cx="662472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ελετήστε, επίσης, την εικόνα του βιβλίου σας στη σ. 16, που δείχνει παράσταση από τον Ιππόδρομο της Κων/πολ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ώς καταλαβαίνετε το σχόλιο «Ο Ιππόδρομος ήταν χώρος έκφρασης της λαϊκής βούλησης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0033"/>
                </a:solidFill>
                <a:latin typeface="Times New Roman"/>
              </a:rPr>
              <a:t>Ονομασία δήμων</a:t>
            </a:r>
            <a:r>
              <a:rPr b="1" lang="el-GR" sz="4200" spc="-1" strike="noStrike">
                <a:solidFill>
                  <a:srgbClr val="4d99e5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7" name="Picture 5" descr="k3a1p1"/>
          <p:cNvPicPr/>
          <p:nvPr/>
        </p:nvPicPr>
        <p:blipFill>
          <a:blip r:embed="rId1"/>
          <a:stretch/>
        </p:blipFill>
        <p:spPr>
          <a:xfrm>
            <a:off x="1547640" y="1844640"/>
            <a:ext cx="2856240" cy="38163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8"/>
          <p:cNvSpPr/>
          <p:nvPr/>
        </p:nvSpPr>
        <p:spPr>
          <a:xfrm>
            <a:off x="4859280" y="2492280"/>
            <a:ext cx="34560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Τμήμα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εικονογραφημένου παπύρου από την Αντινόη,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τον οποίο παριστάνονται ηνίοχοι με τα διακριτικά για τον κάθε δήμο χρώματα στα ενδύματά του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330033"/>
                </a:solidFill>
                <a:latin typeface="Arial"/>
              </a:rPr>
              <a:t>Ιστορία Ελληνικού Έθνους</a:t>
            </a:r>
            <a:r>
              <a:rPr b="0" lang="el-GR" sz="1800" spc="-1" strike="noStrike">
                <a:solidFill>
                  <a:srgbClr val="330033"/>
                </a:solidFill>
                <a:latin typeface="Arial"/>
              </a:rPr>
              <a:t>, τόμος Ζ΄, Εκδοτική Αθηνώ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211280" y="2491920"/>
            <a:ext cx="4032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95000"/>
              </a:lnSpc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Lucida Sans Unicode"/>
              </a:rPr>
              <a:t>Σήμερα, η μηχανή του χρόνου  σταμάτησε στον 6ο αιώνα μ.Χ., σε μια χρονολογία που θα σας αποκαλύψω αργότερ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5000"/>
              </a:lnSpc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Lucida Sans Unicode"/>
              </a:rPr>
              <a:t>Ελάτε να δούμε και να ερευνήσουμε μαζί τι έγινε τότ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5000"/>
              </a:lnSpc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Lucida Sans Unicode"/>
              </a:rPr>
              <a:t>Είστε έτοιμοι για την καινούρια σας αποστολή; Φύγαμε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3564000" y="333360"/>
            <a:ext cx="3456000" cy="1873440"/>
          </a:xfrm>
          <a:prstGeom prst="wedgeEllipseCallout">
            <a:avLst>
              <a:gd name="adj1" fmla="val -45546"/>
              <a:gd name="adj2" fmla="val 80425"/>
            </a:avLst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Γεια σας, παιδιά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ε φωνάζουν κύριο Πολυμαθίδη και σύντομα, νομίζω, θα καταλάβετε το γιατ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2401920" cy="3203640"/>
          </a:xfrm>
          <a:prstGeom prst="rect">
            <a:avLst/>
          </a:prstGeom>
          <a:ln w="9360">
            <a:solidFill>
              <a:srgbClr val="df9a8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2436840" cy="28083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4000" y="4365720"/>
            <a:ext cx="81356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 λαός έδειχνε μεγάλο ενδιαφέρον για τους δήμους και τους αγώνες τους. Το φανερώνουν αυτό πολλές επιγραφές πάνω σε τοίχους και σε διάφορα αντικείμενα, όπως βλέπετε και στις εικόνε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πορείτε να παραλληλίσετε με ανάλογες καταστάσει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2"/>
          <a:stretch/>
        </p:blipFill>
        <p:spPr>
          <a:xfrm>
            <a:off x="4716360" y="1844640"/>
            <a:ext cx="3313080" cy="22320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7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0033"/>
                </a:solidFill>
                <a:latin typeface="Arial"/>
              </a:rPr>
              <a:t>Ενδιαφέρον του λαού για τους δήμ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990033"/>
                </a:solidFill>
                <a:latin typeface="Times New Roman"/>
              </a:rPr>
              <a:t>Εν τω μεταξύ, στο Παλάτι ζούσαν ευτυχισμένοι ο αυτοκράτορας Ιουστινιανός ο Α΄</a:t>
            </a:r>
            <a:br>
              <a:rPr sz="2400"/>
            </a:br>
            <a:r>
              <a:rPr b="1" lang="el-GR" sz="2400" spc="-1" strike="noStrike">
                <a:solidFill>
                  <a:srgbClr val="990033"/>
                </a:solidFill>
                <a:latin typeface="Times New Roman"/>
              </a:rPr>
              <a:t> και η αυτοκράτειρα Θεοδώρα.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4" name="Picture 4" descr="pn2bp1"/>
          <p:cNvPicPr/>
          <p:nvPr/>
        </p:nvPicPr>
        <p:blipFill>
          <a:blip r:embed="rId1"/>
          <a:stretch/>
        </p:blipFill>
        <p:spPr>
          <a:xfrm>
            <a:off x="1042920" y="1846440"/>
            <a:ext cx="3295800" cy="3814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p6ap1"/>
          <p:cNvPicPr/>
          <p:nvPr/>
        </p:nvPicPr>
        <p:blipFill>
          <a:blip r:embed="rId2"/>
          <a:stretch/>
        </p:blipFill>
        <p:spPr>
          <a:xfrm>
            <a:off x="5148360" y="1846440"/>
            <a:ext cx="3327480" cy="374472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10"/>
          <p:cNvSpPr/>
          <p:nvPr/>
        </p:nvSpPr>
        <p:spPr>
          <a:xfrm>
            <a:off x="4284720" y="3284640"/>
            <a:ext cx="936720" cy="792000"/>
          </a:xfrm>
          <a:custGeom>
            <a:avLst/>
            <a:gdLst>
              <a:gd name="textAreaLeft" fmla="*/ 218520 w 936720"/>
              <a:gd name="textAreaRight" fmla="*/ 718200 w 936720"/>
              <a:gd name="textAreaTop" fmla="*/ 83520 h 792000"/>
              <a:gd name="textAreaBottom" fmla="*/ 501480 h 792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990033"/>
                </a:solidFill>
                <a:latin typeface="Times New Roman"/>
              </a:rPr>
              <a:t>Ώσπου μια μέρα..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912000" cy="4176720"/>
          </a:xfrm>
          <a:prstGeom prst="rect">
            <a:avLst/>
          </a:prstGeom>
          <a:ln w="9360">
            <a:solidFill>
              <a:srgbClr val="df9a87"/>
            </a:solidFill>
            <a:miter/>
          </a:ln>
        </p:spPr>
      </p:pic>
      <p:sp>
        <p:nvSpPr>
          <p:cNvPr id="169" name="Rectangle 4"/>
          <p:cNvSpPr/>
          <p:nvPr/>
        </p:nvSpPr>
        <p:spPr>
          <a:xfrm>
            <a:off x="1409040" y="5877000"/>
            <a:ext cx="6554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ry Gonick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Η ιστορία του κόσμου σε κόμικς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- βιβλίο 2, 20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402920" y="2133720"/>
            <a:ext cx="69138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ο γεγονός αυτό έμεινε γνωστό στην Ιστορία ως η Στάση του Νίκ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λήθεια, μπορείτε να μου πείτε λέξεις που σας έρχονται στο μυαλό όταν ακούτε τον όρο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στάση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; Μπορείτε, επίσης, να σκεφτείτε γιατί ονομάστηκε έτσι η Στάση αυτή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990033"/>
                </a:solidFill>
                <a:latin typeface="Times New Roman"/>
              </a:rPr>
              <a:t>Στάση του Νίκα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43280" y="1628640"/>
            <a:ext cx="3889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ελετώντας την κοινωνική πυραμίδα του Βυζαντίου, μπορείτε να συμπεράνετε ορισμένα στοιχεία που έχουν σχέση και με τα αίτια της Στάσης του Νίκα; Σε ποια ιστορική εξέλιξη μπορεί, γενικά,  να οδηγήσει μια τέτοια κοινωνική διαστρωμάτωσ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990033"/>
                </a:solidFill>
                <a:latin typeface="Times New Roman"/>
              </a:rPr>
              <a:t>Κοινωνική οργάνωση</a:t>
            </a:r>
            <a:r>
              <a:rPr b="0" lang="el-GR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294156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0033"/>
                </a:solidFill>
                <a:latin typeface="Arial"/>
              </a:rPr>
              <a:t>Συνεχίζουμε απτόητοι τη μελέτη ως ιστορικοί ερευνητές που είμαστε...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1700280"/>
            <a:ext cx="77058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330033"/>
                </a:solidFill>
                <a:latin typeface="Arial"/>
              </a:rPr>
              <a:t>Μελέτη πηγών (εργασία σε ομάδες) - β΄ φάσ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Η ΣΤΑΣΗ ΤΟΥ ΝΙΚ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ηγή 7 - Αίτια και αφορμή της Στάσ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ηγή 8 - Η στάση της αυτοκράτειρας Θεοδώρ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ηγή 9 - Η πιθανή εξέλιξη των γεγονότ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ηγή 10 - Αποτελέσματα &amp; συνέπειες της Στάσ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ηγή 11 - Αποτελέσματα &amp; συνέπειες της Στάσ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5"/>
          <p:cNvSpPr txBox="1"/>
          <p:nvPr/>
        </p:nvSpPr>
        <p:spPr>
          <a:xfrm>
            <a:off x="2268360" y="2133720"/>
            <a:ext cx="453564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Ανακοινώσεις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&amp; 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συμπληρώσεις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990033"/>
                </a:solidFill>
                <a:latin typeface="Times New Roman"/>
              </a:rPr>
              <a:t>Οι Πράσινοι διαμαρτύρονται στον Ιουστινιανό..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6553080" cy="3925800"/>
          </a:xfrm>
          <a:prstGeom prst="rect">
            <a:avLst/>
          </a:prstGeom>
          <a:ln w="9360">
            <a:solidFill>
              <a:srgbClr val="df9a8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6913800" cy="3763800"/>
          </a:xfrm>
          <a:prstGeom prst="rect">
            <a:avLst/>
          </a:prstGeom>
          <a:ln w="9360">
            <a:solidFill>
              <a:srgbClr val="df9a87"/>
            </a:solidFill>
            <a:miter/>
          </a:ln>
        </p:spPr>
      </p:pic>
      <p:sp>
        <p:nvSpPr>
          <p:cNvPr id="181" name="Text Box 8"/>
          <p:cNvSpPr/>
          <p:nvPr/>
        </p:nvSpPr>
        <p:spPr>
          <a:xfrm>
            <a:off x="826920" y="4869000"/>
            <a:ext cx="784872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ι στασιαστές σπάζουν τις πύλες του ιπποδρόμου και ξεχύνονται στους δρόμους της Πόλης κραυγάζοντας «νίκα - νίκα»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π’ αυτό το σύνθημα η εξέγερση πήρε το όνομα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Στάση του Νίκ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68000" y="5444640"/>
            <a:ext cx="417492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Σύγχρονη φανταστική απεικόνιση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untitled"/>
          <p:cNvPicPr/>
          <p:nvPr/>
        </p:nvPicPr>
        <p:blipFill>
          <a:blip r:embed="rId1"/>
          <a:stretch/>
        </p:blipFill>
        <p:spPr>
          <a:xfrm>
            <a:off x="1042920" y="1628640"/>
            <a:ext cx="3240000" cy="3745080"/>
          </a:xfrm>
          <a:prstGeom prst="rect">
            <a:avLst/>
          </a:prstGeom>
          <a:ln w="9360">
            <a:solidFill>
              <a:srgbClr val="df9a87"/>
            </a:solidFill>
            <a:miter/>
          </a:ln>
        </p:spPr>
      </p:pic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787640" y="3068640"/>
            <a:ext cx="36558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Θεοδώρα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, όμως, όπως βλέπετε και στην εικόνα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προτρέπει τον Ιουστινιανό να καταστείλει τη «Στάση του Νίκα»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990033"/>
                </a:solidFill>
                <a:latin typeface="Times New Roman"/>
              </a:rPr>
              <a:t>Στο παλάτι επικρατεί μεγάλη σύγχυση...</a:t>
            </a:r>
            <a:r>
              <a:rPr b="0" lang="el-GR" sz="5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6720" y="360360"/>
            <a:ext cx="770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0033"/>
                </a:solidFill>
                <a:latin typeface="Times New Roman"/>
              </a:rPr>
              <a:t>Για να ολοκληρώσετε την αποστολή σας, θα πρέπει να συμπληρώσετε το ιστορικό αυτό ερωτηματολόγιο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AutoShape 3"/>
          <p:cNvSpPr/>
          <p:nvPr/>
        </p:nvSpPr>
        <p:spPr>
          <a:xfrm>
            <a:off x="2916360" y="2708280"/>
            <a:ext cx="2879640" cy="1800360"/>
          </a:xfrm>
          <a:prstGeom prst="pi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ι έγιν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ιστορικό γεγονός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971640" y="3068640"/>
            <a:ext cx="1439640" cy="934920"/>
          </a:xfrm>
          <a:prstGeom prst="rect">
            <a:avLst/>
          </a:prstGeom>
          <a:solidFill>
            <a:srgbClr val="df9a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ότε έγιν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χρόνο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3708360" y="1557360"/>
            <a:ext cx="1441440" cy="934920"/>
          </a:xfrm>
          <a:prstGeom prst="rect">
            <a:avLst/>
          </a:prstGeom>
          <a:solidFill>
            <a:srgbClr val="df9a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ού έγιν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χώρο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6012000" y="2781360"/>
            <a:ext cx="2447640" cy="1295280"/>
          </a:xfrm>
          <a:prstGeom prst="rect">
            <a:avLst/>
          </a:prstGeom>
          <a:solidFill>
            <a:srgbClr val="df9a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νάμεσα σε ποιου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αντίπαλες παρατάξεις</a:t>
            </a:r>
            <a:r>
              <a:rPr b="0" lang="el-GR" sz="1800" spc="-1" strike="noStrike">
                <a:solidFill>
                  <a:srgbClr val="33003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3851280" y="4724280"/>
            <a:ext cx="1441440" cy="935280"/>
          </a:xfrm>
          <a:prstGeom prst="rect">
            <a:avLst/>
          </a:prstGeom>
          <a:solidFill>
            <a:srgbClr val="df9a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ιατί έγιν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αίτι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8"/>
          <p:cNvSpPr/>
          <p:nvPr/>
        </p:nvSpPr>
        <p:spPr>
          <a:xfrm rot="486600">
            <a:off x="2449440" y="4844520"/>
            <a:ext cx="403200" cy="665280"/>
          </a:xfrm>
          <a:custGeom>
            <a:avLst/>
            <a:gdLst>
              <a:gd name="textAreaLeft" fmla="*/ 54000 w 403200"/>
              <a:gd name="textAreaRight" fmla="*/ 349200 w 403200"/>
              <a:gd name="textAreaTop" fmla="*/ 116280 h 665280"/>
              <a:gd name="textAreaBottom" fmla="*/ 482400 h 66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9"/>
          <p:cNvSpPr/>
          <p:nvPr/>
        </p:nvSpPr>
        <p:spPr>
          <a:xfrm>
            <a:off x="6516720" y="4797360"/>
            <a:ext cx="444600" cy="719280"/>
          </a:xfrm>
          <a:custGeom>
            <a:avLst/>
            <a:gdLst>
              <a:gd name="textAreaLeft" fmla="*/ 59400 w 444600"/>
              <a:gd name="textAreaRight" fmla="*/ 385200 w 444600"/>
              <a:gd name="textAreaTop" fmla="*/ 125640 h 719280"/>
              <a:gd name="textAreaBottom" fmla="*/ 521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1619640" y="5661000"/>
            <a:ext cx="210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ι αποτέλεσμα είχ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αι γιατί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5652720" y="580536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οιες οι συνέπειε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0033"/>
                </a:solidFill>
                <a:latin typeface="Arial"/>
              </a:rPr>
              <a:t>Η ώρα της μεγάλης απόφασης..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6920" y="198900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ποφασίζει, λοιπόν, ο Ιουστινιανός να πνίξει την επανάσταση στο αίμα και αναθέτει την αποστολή αυτή στον άξιο στρατηγό του Βελισάρι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η δραματική συνέχεια την γνωρίσατε ήδ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7129800" cy="4032360"/>
          </a:xfrm>
          <a:prstGeom prst="rect">
            <a:avLst/>
          </a:prstGeom>
          <a:ln w="9360">
            <a:solidFill>
              <a:srgbClr val="df9a87"/>
            </a:solidFill>
            <a:miter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0033"/>
                </a:solidFill>
                <a:latin typeface="Arial"/>
              </a:rPr>
              <a:t>...και ο θλιβερός επίλογος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1337400" y="5661000"/>
            <a:ext cx="65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ry Gonick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Η ιστορία του κόσμου σε κόμικς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- βιβλίο 2, 20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716000" y="1628280"/>
            <a:ext cx="3816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0033"/>
                </a:solidFill>
                <a:latin typeface="Arial"/>
              </a:rPr>
              <a:t>Στη Στάση αυτή, μάλιστα, πυρπολήθηκε και ο ναός της Αγίας Σοφίας, το αριστούργημα του οικοδομικού προγράμματος του Ιουστινιανού αλλά και ένα από τα πιο λαμπρά επιτεύγματα όλων των εποχώ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t10bp1"/>
          <p:cNvPicPr/>
          <p:nvPr/>
        </p:nvPicPr>
        <p:blipFill>
          <a:blip r:embed="rId1"/>
          <a:stretch/>
        </p:blipFill>
        <p:spPr>
          <a:xfrm>
            <a:off x="1116000" y="1628640"/>
            <a:ext cx="3349800" cy="4465800"/>
          </a:xfrm>
          <a:prstGeom prst="rect">
            <a:avLst/>
          </a:prstGeom>
          <a:ln w="9360">
            <a:solidFill>
              <a:srgbClr val="df9a87"/>
            </a:solidFill>
            <a:miter/>
          </a:ln>
        </p:spPr>
      </p:pic>
      <p:sp>
        <p:nvSpPr>
          <p:cNvPr id="193" name="Text Box 7"/>
          <p:cNvSpPr/>
          <p:nvPr/>
        </p:nvSpPr>
        <p:spPr>
          <a:xfrm>
            <a:off x="1116000" y="76500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0033"/>
                </a:solidFill>
                <a:latin typeface="Arial"/>
              </a:rPr>
              <a:t>Η Αγια-Σοφι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00360" y="1988640"/>
            <a:ext cx="36716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οιοι είναι, στ’ αλήθεια,  οι κερδισμένοι και ποιοι οι χαμένοι σε κάθε μάχη, σε κάθε αγώνα, σε κάθε «παιχνίδι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οιο είναι, τελικά, το «κόστος» των μεγάλων οραμάτω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1513080" cy="14461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990033"/>
                </a:solidFill>
                <a:latin typeface="Times New Roman"/>
              </a:rPr>
              <a:t>Ας προβληματιστούμε λίγο..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826920" y="3789360"/>
            <a:ext cx="338472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ο μεγάλο ερώτημα, βέβαια, είναι ποιος νίκησε τελικά στη Στάση του Νίκα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0033"/>
                </a:solidFill>
                <a:latin typeface="Times New Roman"/>
              </a:rPr>
              <a:t>Νομίζω ότι συμπληρώσαμε, επιτέλους, το ιστορικό ερωτηματολόγιο. Ας συνοψίσουμε..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00000" y="1699920"/>
            <a:ext cx="3810240" cy="45306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003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990033"/>
                </a:solidFill>
                <a:latin typeface="Arial"/>
              </a:rPr>
              <a:t>Ιστορικό γεγονό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Στάση του Νίκ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990033"/>
                </a:solidFill>
                <a:latin typeface="Arial"/>
              </a:rPr>
              <a:t>Χρόνο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ρωτοβυζαντινή  εποχή (6ος αι. μ.Χ. - Ιανουάριος 532 μ.Χ. - διάρκεια: έξι μέρε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990033"/>
                </a:solidFill>
                <a:latin typeface="Arial"/>
              </a:rPr>
              <a:t>Χώρο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ωνσταντινούπολ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(στον ιππόδρομο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58920" y="1699920"/>
            <a:ext cx="3809880" cy="45306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003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990033"/>
                </a:solidFill>
                <a:latin typeface="Arial"/>
              </a:rPr>
              <a:t>Αντίπαλες παρατάξει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τασιαστές: οι δύο μεγάλοι Δήμοι της Κων/πολης, οι Πράσινοι και οι Βένετο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υτοκράτορας Ιουστινιανός και οι σύμβουλοί τ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003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990033"/>
                </a:solidFill>
                <a:latin typeface="Arial"/>
              </a:rPr>
              <a:t>Αίτι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γενική δυσαρέσκεια για την καταπίεση και τη βαριά φορολογί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διαφθορά ανώτερων αξιωματούχων του κράτου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03280" y="1599840"/>
            <a:ext cx="3683160" cy="45306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003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990033"/>
                </a:solidFill>
                <a:latin typeface="Arial"/>
              </a:rPr>
              <a:t>Αποτελέσμα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ποτυχία εξέγερσ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φαγή 30.000 περίπου στασιαστ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κτέλεση Υπάτιου και μερικών συγκλητικών που αποστάτησα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003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990033"/>
                </a:solidFill>
                <a:latin typeface="Arial"/>
              </a:rPr>
              <a:t>Γιατί είχε αυτό το αποτέλεσμα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Έλλειψη καθορισμένων στόχων, οργάνωσης και συντονισμού  εκ μέρους των  στασιαστ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003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990033"/>
                </a:solidFill>
                <a:latin typeface="Arial"/>
              </a:rPr>
              <a:t>Συνέπειε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είωση προσωρινά της δύναμης των Δήμ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νίσχυση απόλυτης μοναρχί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δραίωση της κατάστασης στο εσωτερικό για τον Ιουστινιαν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990033"/>
                </a:solidFill>
                <a:latin typeface="Arial"/>
              </a:rPr>
              <a:t>Ώρα για εργασίες!</a:t>
            </a:r>
            <a:br>
              <a:rPr sz="2800"/>
            </a:b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(υποχρεωτική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58560" y="1988640"/>
            <a:ext cx="5329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πό ένα βυζαντινό χειρόγραφο που βρέθηκε μισοκαταστραμμένο, απουσιάζουν βασικές πληροφορίες για τα αίτια, τα αποτελέσματα και τις συνέπειες της Στάσης του Νίκα. Να τις παρουσιάσετε, γράφοντας ένα σύντομο ιστορικό ρεπορτάζ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8" descr=""/>
          <p:cNvPicPr/>
          <p:nvPr/>
        </p:nvPicPr>
        <p:blipFill>
          <a:blip r:embed="rId1"/>
          <a:stretch/>
        </p:blipFill>
        <p:spPr>
          <a:xfrm>
            <a:off x="6732720" y="3573360"/>
            <a:ext cx="1266840" cy="1800360"/>
          </a:xfrm>
          <a:prstGeom prst="rect">
            <a:avLst/>
          </a:prstGeom>
          <a:ln w="9360">
            <a:solidFill>
              <a:srgbClr val="df9a8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990033"/>
                </a:solidFill>
                <a:latin typeface="Arial"/>
              </a:rPr>
              <a:t>Ώρα για εργασίες!</a:t>
            </a:r>
            <a:br>
              <a:rPr sz="2800"/>
            </a:b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(προαιρετικές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58920" y="1916280"/>
            <a:ext cx="682632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 ήσασταν στη θέση του Ιουστινιανού πώς θα αντιμετωπίζατε τη Στάση του Νίκα; Εισηγηθείτε έναν άλλο τρόπ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Γράψτε ένα διάλογο ανάμεσα στον Ιουστινιανό και τη σύζυγό του Θεοδώρα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) πριν από τη Στάση του Νίκ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β) μετά τη Στάση του Νίκ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990033"/>
                </a:solidFill>
                <a:latin typeface="Times New Roman"/>
              </a:rPr>
              <a:t>Παραλληλισμός με σημερινές ποδοσφαιρικές ομάδες </a:t>
            </a:r>
            <a:br>
              <a:rPr sz="2400"/>
            </a:b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(προαιρετική)</a:t>
            </a:r>
            <a:r>
              <a:rPr b="0" lang="el-GR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11" name="Picture 8" descr="j0301480"/>
          <p:cNvPicPr/>
          <p:nvPr/>
        </p:nvPicPr>
        <p:blipFill>
          <a:blip r:embed="rId1"/>
          <a:stretch/>
        </p:blipFill>
        <p:spPr>
          <a:xfrm>
            <a:off x="1692360" y="4365720"/>
            <a:ext cx="2158920" cy="13222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j0286034"/>
          <p:cNvPicPr/>
          <p:nvPr/>
        </p:nvPicPr>
        <p:blipFill>
          <a:blip r:embed="rId2"/>
          <a:stretch/>
        </p:blipFill>
        <p:spPr>
          <a:xfrm>
            <a:off x="5364000" y="3500280"/>
            <a:ext cx="2303640" cy="221940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12"/>
          <p:cNvSpPr/>
          <p:nvPr/>
        </p:nvSpPr>
        <p:spPr>
          <a:xfrm>
            <a:off x="971640" y="1557360"/>
            <a:ext cx="3456000" cy="2232000"/>
          </a:xfrm>
          <a:prstGeom prst="cloudCallout">
            <a:avLst>
              <a:gd name="adj1" fmla="val 75675"/>
              <a:gd name="adj2" fmla="val 49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1258920" y="1844640"/>
            <a:ext cx="280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Το ημερολόγιο ενός ποδοσφαιρόφιλο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Μια μέρα στο γήπεδο – φαινόμενα φανατισμο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452124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ώρα θα μου πείτε: «Πού θα βρούμε όλα αυτά τα στοιχεία; Επιστήμονες είμαστε;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ην ανησυχείτε, εγώ είμαι εδώ! Άδικα με λένε, νομίζετε, κύριο Πολυμαθίδη; Τόσα βιβλία διάβασα! Θα σας βοηθήσω με τις εικόνες και τις πηγές που ακολουθούν. Πάμε μαζί, βήμα-βήμ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5796000" y="1773360"/>
            <a:ext cx="2603520" cy="3527280"/>
          </a:xfrm>
          <a:prstGeom prst="rect">
            <a:avLst/>
          </a:prstGeom>
          <a:ln w="9360">
            <a:solidFill>
              <a:srgbClr val="e6ba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900000" y="1703520"/>
            <a:ext cx="2598840" cy="3813120"/>
          </a:xfrm>
          <a:prstGeom prst="rect">
            <a:avLst/>
          </a:prstGeom>
          <a:ln w="9360">
            <a:solidFill>
              <a:srgbClr val="df9a87"/>
            </a:solidFill>
            <a:miter/>
          </a:ln>
        </p:spPr>
      </p:pic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716000" y="3716280"/>
            <a:ext cx="309564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0033"/>
                </a:solidFill>
                <a:latin typeface="Arial"/>
              </a:rPr>
              <a:t>Αυτά λοιπόν, προς το παρόν. Θα τα ξαναπούμε άλλη φορά. Γεια χαρά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4643280" y="404640"/>
            <a:ext cx="3816360" cy="3095640"/>
          </a:xfrm>
          <a:prstGeom prst="wedgeEllipseCallout">
            <a:avLst>
              <a:gd name="adj1" fmla="val -67263"/>
              <a:gd name="adj2" fmla="val 12819"/>
            </a:avLst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5076720" y="692280"/>
            <a:ext cx="302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330033"/>
                </a:solidFill>
                <a:latin typeface="Arial"/>
              </a:rPr>
              <a:t>Μπράβο, παιδιά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330033"/>
                </a:solidFill>
                <a:latin typeface="Arial"/>
              </a:rPr>
              <a:t>Τα καταφέρατε μια χαρά ως μικροί ιστορικοί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330033"/>
                </a:solidFill>
                <a:latin typeface="Arial"/>
              </a:rPr>
              <a:t>Σας αξίζουν συγχαρητήρια, επίσης,  για την υπομονή σας. Μην ξεχνάτε, όμως, παιδεία (και παιδία!) σημαίνει παίδεμ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0033"/>
                </a:solidFill>
                <a:latin typeface="Times New Roman"/>
              </a:rPr>
              <a:t>Ας μελετήσουμε πρώτα την ιστορική γραμμή..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6" name="Picture 3" descr="ΓΡΑΜΜΗ ΧΡΟΝΟΥ ΙΣΤΟΡΙΑΣ (1)"/>
          <p:cNvPicPr/>
          <p:nvPr/>
        </p:nvPicPr>
        <p:blipFill>
          <a:blip r:embed="rId1"/>
          <a:stretch/>
        </p:blipFill>
        <p:spPr>
          <a:xfrm>
            <a:off x="1403280" y="1698480"/>
            <a:ext cx="3127320" cy="4176720"/>
          </a:xfrm>
          <a:prstGeom prst="rect">
            <a:avLst/>
          </a:prstGeom>
          <a:ln w="9360">
            <a:solidFill>
              <a:srgbClr val="df9a87"/>
            </a:solidFill>
            <a:miter/>
          </a:ln>
        </p:spPr>
      </p:pic>
      <p:pic>
        <p:nvPicPr>
          <p:cNvPr id="117" name="Picture 4" descr="ΓΡΑΜΜΗ ΧΡΟΝΟΥ ΙΣΤΟΡΙΑΣ (2)"/>
          <p:cNvPicPr/>
          <p:nvPr/>
        </p:nvPicPr>
        <p:blipFill>
          <a:blip r:embed="rId2"/>
          <a:stretch/>
        </p:blipFill>
        <p:spPr>
          <a:xfrm>
            <a:off x="4500720" y="1698480"/>
            <a:ext cx="3236760" cy="4176720"/>
          </a:xfrm>
          <a:prstGeom prst="rect">
            <a:avLst/>
          </a:prstGeom>
          <a:ln w="9360">
            <a:solidFill>
              <a:srgbClr val="df9a8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0033"/>
                </a:solidFill>
                <a:latin typeface="Times New Roman"/>
              </a:rPr>
              <a:t>Μελετούμε επίσης..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58920" y="2205000"/>
            <a:ext cx="3240000" cy="1727280"/>
          </a:xfrm>
          <a:prstGeom prst="rect">
            <a:avLst/>
          </a:prstGeom>
          <a:noFill/>
          <a:ln w="9360">
            <a:solidFill>
              <a:srgbClr val="cccc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ν χρονολογικό πίνακα (σ. 18 του βιβλίου)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88000" y="3860640"/>
            <a:ext cx="3168720" cy="1657440"/>
          </a:xfrm>
          <a:prstGeom prst="rect">
            <a:avLst/>
          </a:prstGeom>
          <a:noFill/>
          <a:ln w="9360">
            <a:solidFill>
              <a:srgbClr val="cccc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τον ιστορικό χάρτη (σ. 17 του βιβλίο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990033"/>
                </a:solidFill>
                <a:latin typeface="Times New Roman"/>
              </a:rPr>
              <a:t>Ο αιώνας του Ιουστινιανού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Όπως διαπιστώσατε, βρισκόμαστε στον 6ο αι. μ.Χ. που ονομάστηκε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αιώνας του Ιουστινιανού.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πορείτε να σκεφτείτε γιατί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πειδή αυτό το διάστημα σφραγίστηκε από την προσωπικότητα και το έργο του. Θεωρείται ένας από τους σημαντικότερους ηγέτες της πρώιμης βυζαντινής ιστορία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οιο ανάλογο ιστορικό παράδειγμα σας θυμίζει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ον Περικλή, από τον οποίο ονομάστηκε ο 5</a:t>
            </a:r>
            <a:r>
              <a:rPr b="0" lang="el-GR" sz="2400" spc="-1" strike="noStrike" baseline="30000">
                <a:solidFill>
                  <a:srgbClr val="000000"/>
                </a:solidFill>
                <a:latin typeface="Arial"/>
              </a:rPr>
              <a:t>ο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αιώνας π.Χ.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αιώνας του Περικλή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0033"/>
                </a:solidFill>
                <a:latin typeface="Times New Roman"/>
              </a:rPr>
              <a:t>Για να καταλάβετε καλύτερα το τι ακολούθησε, πρέπει να γνωρίσετε καλύτερα την προσωπικότητά του...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1187280" y="1916280"/>
            <a:ext cx="6913800" cy="4248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3111480" y="2655720"/>
            <a:ext cx="23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763640" y="2637000"/>
            <a:ext cx="6121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έρας» μορφώσεως, με καλλιτεχνικό ταλέντ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ροικισμένος με σπάνια πνευματικά και ψυχικά χαρίσματα: εξυπνάδα, αντοχή, εργατικότητ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Λιτοδίαιτος, ευσεβής, καταδεχτικός αλλά και αυστηρός στην επιβολή των απόψεών το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ιορατικός, διάλεγε τους κατάλληλους συνεργάτε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Φιλόδοξος και επιδέξιος, οραματίστηκε μεγαλόπνοα σχέδι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990033"/>
                </a:solidFill>
                <a:latin typeface="Arial"/>
              </a:rPr>
              <a:t>ΠΕΤΡΟΣ ΣΑΒΒΑΤΙΟΣ ΙΟΥΣΤΙΝΙΑΝΟ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(483- 565 μ.Χ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0033"/>
                </a:solidFill>
                <a:latin typeface="Times New Roman"/>
              </a:rPr>
              <a:t>... </a:t>
            </a:r>
            <a:r>
              <a:rPr b="1" lang="el-GR" sz="2400" spc="-1" strike="noStrike">
                <a:solidFill>
                  <a:srgbClr val="330033"/>
                </a:solidFill>
                <a:latin typeface="Times New Roman"/>
              </a:rPr>
              <a:t>καθώς επίσης το όραμα και το πολιτικό του πρόγραμμα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6156360" y="1557360"/>
            <a:ext cx="2519280" cy="1871640"/>
          </a:xfrm>
          <a:prstGeom prst="cloudCallout">
            <a:avLst>
              <a:gd name="adj1" fmla="val -73314"/>
              <a:gd name="adj2" fmla="val 6162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pn2bp1"/>
          <p:cNvPicPr/>
          <p:nvPr/>
        </p:nvPicPr>
        <p:blipFill>
          <a:blip r:embed="rId1"/>
          <a:stretch/>
        </p:blipFill>
        <p:spPr>
          <a:xfrm>
            <a:off x="3564000" y="2852640"/>
            <a:ext cx="1873080" cy="208908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7"/>
          <p:cNvSpPr/>
          <p:nvPr/>
        </p:nvSpPr>
        <p:spPr>
          <a:xfrm>
            <a:off x="684360" y="1557360"/>
            <a:ext cx="2447640" cy="1871640"/>
          </a:xfrm>
          <a:prstGeom prst="cloudCallout">
            <a:avLst>
              <a:gd name="adj1" fmla="val 62384"/>
              <a:gd name="adj2" fmla="val 65861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971640" y="1773360"/>
            <a:ext cx="201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ποκατάστασ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Ρωμαϊκής Οικουμέν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nquista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6516720" y="1773360"/>
            <a:ext cx="180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Ένα κράτος, μία εκκλησία, μία νομοθεσί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(ενοποίηση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0" y="2820960"/>
            <a:ext cx="91440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2640" rIns="1142640" tIns="-737640" bIns="-7376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1042920" y="4915440"/>
            <a:ext cx="73454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Ρωμαϊκή ιδέα                                     Χριστιανική ορθοδοξί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Ιδεώδη του Ιουστινιανο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3"/>
          <p:cNvSpPr/>
          <p:nvPr/>
        </p:nvSpPr>
        <p:spPr>
          <a:xfrm rot="10800000">
            <a:off x="3779640" y="5084640"/>
            <a:ext cx="1439640" cy="719280"/>
          </a:xfrm>
          <a:custGeom>
            <a:avLst/>
            <a:gdLst>
              <a:gd name="textAreaLeft" fmla="*/ 136800 w 1439640"/>
              <a:gd name="textAreaRight" fmla="*/ 1302840 w 1439640"/>
              <a:gd name="textAreaTop" fmla="*/ 402840 h 719280"/>
              <a:gd name="textAreaBottom" fmla="*/ 604440 h 7192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171" y="6171"/>
                </a:lnTo>
                <a:lnTo>
                  <a:pt x="8640" y="6171"/>
                </a:lnTo>
                <a:lnTo>
                  <a:pt x="8640" y="12096"/>
                </a:lnTo>
                <a:lnTo>
                  <a:pt x="4408" y="12096"/>
                </a:lnTo>
                <a:lnTo>
                  <a:pt x="4408" y="8639"/>
                </a:lnTo>
                <a:lnTo>
                  <a:pt x="0" y="15120"/>
                </a:lnTo>
                <a:lnTo>
                  <a:pt x="4408" y="21600"/>
                </a:lnTo>
                <a:lnTo>
                  <a:pt x="4408" y="18143"/>
                </a:lnTo>
                <a:lnTo>
                  <a:pt x="17192" y="18143"/>
                </a:lnTo>
                <a:lnTo>
                  <a:pt x="17192" y="21600"/>
                </a:lnTo>
                <a:lnTo>
                  <a:pt x="21600" y="15120"/>
                </a:lnTo>
                <a:lnTo>
                  <a:pt x="17192" y="8639"/>
                </a:lnTo>
                <a:lnTo>
                  <a:pt x="17192" y="12096"/>
                </a:lnTo>
                <a:lnTo>
                  <a:pt x="12960" y="12096"/>
                </a:lnTo>
                <a:lnTo>
                  <a:pt x="12960" y="6171"/>
                </a:lnTo>
                <a:lnTo>
                  <a:pt x="15429" y="6171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2T09:55:07Z</dcterms:created>
  <dc:creator>papaleontiou</dc:creator>
  <dc:description/>
  <dc:language>en-US</dc:language>
  <cp:lastModifiedBy>user</cp:lastModifiedBy>
  <dcterms:modified xsi:type="dcterms:W3CDTF">2011-02-02T08:37:22Z</dcterms:modified>
  <cp:revision>281</cp:revision>
  <dc:subject/>
  <dc:title>ioustinianos</dc:title>
</cp:coreProperties>
</file>